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D53-810C-4BF0-B660-7252C809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420-8B9A-40D9-B29E-3608CB07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64B-F562-4215-9480-841EAB65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DE5-2C10-415C-8CD9-176A5F74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055-A4C4-4749-8DA4-07FAE59B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AEF-33BA-4376-916F-ED0A4DC9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3899-8CED-45C4-946B-D28E230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9FD-9058-4C1A-B8D3-DB004B25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F40-705A-4524-934B-6AF6941E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ED8-A56F-48A7-898D-FC8ABA19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24B-1F6F-4844-A8EE-A9E44FEA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018-70CF-40A1-8882-788FD1A3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293D-AB9B-403F-9BC8-B170E41F86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4753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Arial"/>
              </a:rPr>
              <a:t>Para Crear un Mód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7640" y="1052640"/>
            <a:ext cx="5543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Abra el Editor de VBA. (Alt + F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En el Menú </a:t>
            </a:r>
            <a:r>
              <a:rPr b="1" lang="es-CR" sz="1600" spc="-1" strike="noStrike" u="sng">
                <a:solidFill>
                  <a:srgbClr val="000000"/>
                </a:solidFill>
                <a:uFillTx/>
                <a:latin typeface="Arial"/>
              </a:rPr>
              <a:t>Insertar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 seleccione la opción </a:t>
            </a:r>
            <a:r>
              <a:rPr b="1" lang="es-CR" sz="1600" spc="-1" strike="noStrike" u="sng">
                <a:solidFill>
                  <a:srgbClr val="000000"/>
                </a:solidFill>
                <a:uFillTx/>
                <a:latin typeface="Arial"/>
              </a:rPr>
              <a:t>Mód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En la Ventana de </a:t>
            </a:r>
            <a:r>
              <a:rPr b="1" lang="es-CR" sz="1600" spc="-1" strike="noStrike">
                <a:solidFill>
                  <a:srgbClr val="000000"/>
                </a:solidFill>
                <a:latin typeface="Arial"/>
              </a:rPr>
              <a:t>Código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 digite el texto similar al que se muestra en la imagen de abaj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En la propiedad </a:t>
            </a:r>
            <a:r>
              <a:rPr b="1" lang="es-CR" sz="1600" spc="-1" strike="noStrike" u="sng">
                <a:solidFill>
                  <a:srgbClr val="000000"/>
                </a:solidFill>
                <a:uFillTx/>
                <a:latin typeface="Arial"/>
              </a:rPr>
              <a:t>Name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es-CR" sz="1600" spc="-1" strike="noStrike">
                <a:solidFill>
                  <a:srgbClr val="000000"/>
                </a:solidFill>
                <a:latin typeface="Arial"/>
              </a:rPr>
              <a:t>Módulo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, asigne un nombre acorde con lo que éste ejecutará. En este ejemplo se asigna el nombre MDLEditorial para indicar que se refiere a uso del formulario FrmEditorial </a:t>
            </a:r>
            <a:r>
              <a:rPr b="0" lang="es-CR" sz="1000" spc="-1" strike="noStrike">
                <a:solidFill>
                  <a:srgbClr val="000000"/>
                </a:solidFill>
                <a:latin typeface="Arial"/>
              </a:rPr>
              <a:t>(Creado previamente)</a:t>
            </a: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R" sz="1200" spc="-1" strike="noStrike" u="sng">
                <a:solidFill>
                  <a:srgbClr val="000000"/>
                </a:solidFill>
                <a:uFillTx/>
                <a:latin typeface="Arial"/>
              </a:rPr>
              <a:t>Nota:</a:t>
            </a: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 Repite los pasos del 1 al 4 para otros módulos que necesites cr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702400" y="404640"/>
            <a:ext cx="333360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84360" y="3246480"/>
            <a:ext cx="7583400" cy="29908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8"/>
          <p:cNvSpPr/>
          <p:nvPr/>
        </p:nvSpPr>
        <p:spPr>
          <a:xfrm>
            <a:off x="4643280" y="5229360"/>
            <a:ext cx="4249800" cy="1512720"/>
          </a:xfrm>
          <a:prstGeom prst="wedgeRoundRectCallout">
            <a:avLst>
              <a:gd name="adj1" fmla="val 5435"/>
              <a:gd name="adj2" fmla="val -935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 u="sng">
                <a:solidFill>
                  <a:srgbClr val="000000"/>
                </a:solidFill>
                <a:uFillTx/>
                <a:latin typeface="Arial"/>
              </a:rPr>
              <a:t>Recuerda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 que los Módulos son procedimientos que se crean con la intención de utilizarlos posteriormente, para ejecutar algún ev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s recomendable primero crear cada módulo y luego activarlo mediante un botón, autoforma, imagen u otro elem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250920" y="2276640"/>
            <a:ext cx="360360" cy="3744720"/>
            <a:chOff x="250920" y="2276640"/>
            <a:chExt cx="360360" cy="3744720"/>
          </a:xfrm>
        </p:grpSpPr>
        <p:sp>
          <p:nvSpPr>
            <p:cNvPr id="47" name="Line 9"/>
            <p:cNvSpPr/>
            <p:nvPr/>
          </p:nvSpPr>
          <p:spPr>
            <a:xfrm>
              <a:off x="250920" y="602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250920" y="2276640"/>
              <a:ext cx="0" cy="37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Line 13"/>
          <p:cNvSpPr/>
          <p:nvPr/>
        </p:nvSpPr>
        <p:spPr>
          <a:xfrm>
            <a:off x="601200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 flipH="1">
            <a:off x="3851280" y="1916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5133960" y="14270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324000" y="58680"/>
            <a:ext cx="25923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 u="sng">
                <a:solidFill>
                  <a:srgbClr val="000000"/>
                </a:solidFill>
                <a:uFillTx/>
                <a:latin typeface="Arial"/>
              </a:rPr>
              <a:t>Programación VBA en 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5651640" y="1930320"/>
            <a:ext cx="144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594400" y="1628640"/>
            <a:ext cx="144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0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" y="475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Arial"/>
              </a:rPr>
              <a:t>Para Activar un Módu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3348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Haz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clic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 con el </a:t>
            </a:r>
            <a:r>
              <a:rPr b="1" lang="es-CR" sz="1400" spc="-1" strike="noStrike" u="sng">
                <a:solidFill>
                  <a:srgbClr val="000000"/>
                </a:solidFill>
                <a:uFillTx/>
                <a:latin typeface="Arial"/>
              </a:rPr>
              <a:t>botón derecho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 del mouse sobre el objeto mediante el cual deseas activar un mód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n el menú activado elija la opción </a:t>
            </a:r>
            <a:r>
              <a:rPr b="1" lang="es-CR" sz="1400" spc="-1" strike="noStrike" u="sng">
                <a:solidFill>
                  <a:srgbClr val="000000"/>
                </a:solidFill>
                <a:uFillTx/>
                <a:latin typeface="Arial"/>
              </a:rPr>
              <a:t>Configuración de la acción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En cuadro de dialogo, en la opción 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Ejecutar Macro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, seleccione el nombre del módulo a utiliz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Luego Seleccione </a:t>
            </a:r>
            <a:r>
              <a:rPr b="1" lang="es-CR" sz="1400" spc="-1" strike="noStrike" u="sng">
                <a:solidFill>
                  <a:srgbClr val="000000"/>
                </a:solidFill>
                <a:uFillTx/>
                <a:latin typeface="Arial"/>
              </a:rPr>
              <a:t>Aceptar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Active la presentación Power Point (</a:t>
            </a:r>
            <a:r>
              <a:rPr b="1" lang="es-CR" sz="1400" spc="-1" strike="noStrike">
                <a:solidFill>
                  <a:srgbClr val="000000"/>
                </a:solidFill>
                <a:latin typeface="Arial"/>
              </a:rPr>
              <a:t>F5</a:t>
            </a: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Da un clic sobre el objeto al que se le asignó el módulo para activar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R" sz="1200" spc="-1" strike="noStrike" u="sng">
                <a:solidFill>
                  <a:srgbClr val="000000"/>
                </a:solidFill>
                <a:uFillTx/>
                <a:latin typeface="Arial"/>
              </a:rPr>
              <a:t>Nota:</a:t>
            </a: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 En este ejemplo estamos activando el módulo AbrirFrmEditorial, para abrir el formulario Edito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Repita los pasos del 1 al 4 para activar los módulos deseados y creados previa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546360" y="189000"/>
            <a:ext cx="5311800" cy="36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4500720" y="3933720"/>
            <a:ext cx="2665080" cy="2592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24000" y="58680"/>
            <a:ext cx="25923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 u="sng">
                <a:solidFill>
                  <a:srgbClr val="000000"/>
                </a:solidFill>
                <a:uFillTx/>
                <a:latin typeface="Arial"/>
              </a:rPr>
              <a:t>Programación VBA en 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2700360" y="980640"/>
            <a:ext cx="129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2987640" y="2520720"/>
            <a:ext cx="20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2842920" y="3141720"/>
            <a:ext cx="1800360" cy="2448000"/>
            <a:chOff x="2842920" y="3141720"/>
            <a:chExt cx="1800360" cy="2448000"/>
          </a:xfrm>
        </p:grpSpPr>
        <p:sp>
          <p:nvSpPr>
            <p:cNvPr id="64" name="AutoShape 9"/>
            <p:cNvSpPr/>
            <p:nvPr/>
          </p:nvSpPr>
          <p:spPr>
            <a:xfrm>
              <a:off x="4284720" y="5157720"/>
              <a:ext cx="358560" cy="432000"/>
            </a:xfrm>
            <a:custGeom>
              <a:avLst/>
              <a:gdLst>
                <a:gd name="textAreaLeft" fmla="*/ 228960 w 358560"/>
                <a:gd name="textAreaRight" fmla="*/ 358560 w 358560"/>
                <a:gd name="textAreaTop" fmla="*/ 11160 h 432000"/>
                <a:gd name="textAreaBottom" fmla="*/ 4208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3419640" y="537372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1"/>
            <p:cNvSpPr/>
            <p:nvPr/>
          </p:nvSpPr>
          <p:spPr>
            <a:xfrm flipV="1">
              <a:off x="3419640" y="314172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2842920" y="3141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50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0108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Arial"/>
              </a:rPr>
              <a:t>Programando objetos tipo imagen de VBA en una Presentación Power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635280" y="2419200"/>
            <a:ext cx="4734000" cy="439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271440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68360" y="333360"/>
            <a:ext cx="8137440" cy="21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Active la barra de herramientas Cuadro de Controles (Ver – Barras de Herramientas – Cuadro de Contr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Inserta un objeto imagen en pantalla como se observa en la figura de abajo utilizada como muest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Abre la ventana propiedades del objeto imagen y modifica las señaladas con una flecha a la izquier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Haz doble clic sobre el objeto imagen y digita el siguiente código de programación (indicado con la flech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Cierre la ventana de código.- Active la presentación PP (F5) y haz clic en el objeto imagen que haz program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0000"/>
                </a:solidFill>
                <a:latin typeface="Arial"/>
              </a:rPr>
              <a:t>Repite el procedimiento la cantidad de veces que desees utilizar este estilo de program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127080" y="3156120"/>
            <a:ext cx="2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141120" y="360216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141120" y="388944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141120" y="473868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141120" y="5027760"/>
            <a:ext cx="25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2987640" y="378936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6"/>
          <p:cNvSpPr/>
          <p:nvPr/>
        </p:nvSpPr>
        <p:spPr>
          <a:xfrm>
            <a:off x="8244000" y="2492280"/>
            <a:ext cx="288720" cy="1511280"/>
          </a:xfrm>
          <a:custGeom>
            <a:avLst/>
            <a:gdLst>
              <a:gd name="textAreaLeft" fmla="*/ 0 w 288720"/>
              <a:gd name="textAreaRight" fmla="*/ 104040 w 2887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8"/>
          <p:cNvSpPr/>
          <p:nvPr/>
        </p:nvSpPr>
        <p:spPr>
          <a:xfrm>
            <a:off x="8604360" y="3068640"/>
            <a:ext cx="360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0"/>
          <p:cNvSpPr/>
          <p:nvPr/>
        </p:nvSpPr>
        <p:spPr>
          <a:xfrm>
            <a:off x="3132000" y="3645000"/>
            <a:ext cx="432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1" descr=""/>
          <p:cNvPicPr/>
          <p:nvPr/>
        </p:nvPicPr>
        <p:blipFill>
          <a:blip r:embed="rId3"/>
          <a:stretch/>
        </p:blipFill>
        <p:spPr>
          <a:xfrm>
            <a:off x="900000" y="1297080"/>
            <a:ext cx="5256360" cy="504720"/>
          </a:xfrm>
          <a:prstGeom prst="rect">
            <a:avLst/>
          </a:prstGeom>
          <a:ln w="0">
            <a:noFill/>
          </a:ln>
        </p:spPr>
      </p:pic>
      <p:sp>
        <p:nvSpPr>
          <p:cNvPr id="83" name="Line 32"/>
          <p:cNvSpPr/>
          <p:nvPr/>
        </p:nvSpPr>
        <p:spPr>
          <a:xfrm>
            <a:off x="682560" y="1571760"/>
            <a:ext cx="25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4"/>
          <p:cNvSpPr/>
          <p:nvPr/>
        </p:nvSpPr>
        <p:spPr>
          <a:xfrm>
            <a:off x="4788000" y="383220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29"/>
          <p:cNvSpPr/>
          <p:nvPr/>
        </p:nvSpPr>
        <p:spPr>
          <a:xfrm>
            <a:off x="5867280" y="3643200"/>
            <a:ext cx="432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0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03:04:38Z</dcterms:created>
  <dc:creator>Administrador</dc:creator>
  <dc:description/>
  <dc:language>en-US</dc:language>
  <cp:lastModifiedBy>andres</cp:lastModifiedBy>
  <dcterms:modified xsi:type="dcterms:W3CDTF">2008-05-27T15:53:13Z</dcterms:modified>
  <cp:revision>13</cp:revision>
  <dc:subject/>
  <dc:title>Diapositiva 1</dc:title>
</cp:coreProperties>
</file>